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B18-C61E-4EEC-9235-F6690FD66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FAD-6A5E-46D0-8EE1-403E28E0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E1268-DAE7-4D27-B474-3ED7E69E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66339D-CA8E-48CD-AB50-F501831C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B1DB0-803C-444A-9DC0-2E7BC938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5A1E9-AA18-41CF-9F94-0449D73E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638BF-6040-4915-90F4-ED9B5D62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68E92B-CAFA-4627-9657-43BE9649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E736B2-1B1A-4C3F-BD96-67846784D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A6ECB-8CC4-4471-B04F-213852A5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25835-8ECE-4D4A-9037-9C50FBAE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142-7A48-41D5-94CC-B5C86135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8B9-1BAA-4525-82C6-481949E1D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BF72-37DE-40BB-906D-9E36CB53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4585-9FD1-46D0-9A6B-E5021B84E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EE53-5F11-436C-ACCF-24974B5E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A489-A912-4F33-8BDC-19E8B59C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17D6-7CA5-481A-B1FB-2068DEC3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353F5-CA2D-454E-920F-A9E0F675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49D1-4172-4A5F-9260-86F7D0A2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3B8-F150-4847-9AA6-CF4EE6F4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0AA9-EF07-46BA-9D7E-493C6242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7412-77B3-4449-8FEB-37224E8E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D77F-48DA-422B-BC95-C1CA5BD1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A5FA0-0895-4788-8824-55B51316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7B057-F646-4C3F-AD76-A0353D51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C0442-3773-4D63-A196-91D57257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32BF5-B314-4500-93E7-AF6768AE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EB159-8069-402E-811A-2F9F4745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F48B2-9224-4597-8BFA-950DFFD3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7311-93A0-424D-9350-85CAF4A9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841-2F41-4B1D-85B0-7BD18452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0F2F8-7BC6-4C2B-9D6A-AA94AA22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E0AEC-BFA8-4653-AA18-0CF36C62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46AA5-3075-4B34-851C-286B81A9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A287-3B0D-4968-936A-143AC6FB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8A927-51EB-4DE7-92EE-46F02131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B5268-4041-4AFD-A916-4FED6B9B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5F5D0-F3D3-4836-B736-95E0F65F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705DC-28E9-44BD-BFAA-58D57CEF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79705-18DE-46FD-ACA6-F0672601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E5E45-E822-4FF8-BF18-5BE36A12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0F9C-2247-48C4-BED0-AEC6D6B0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37BD4-4AE3-4941-B290-64415A86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385CD-930C-4D73-8ABE-790C5D76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4294F-F7C2-4589-9C26-682F470D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3949D-8640-4132-A724-4391C5E1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EAC4D-7EB2-40D2-88C3-3BA1D894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7005E-43C2-4C73-A490-D157B29D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22E19-6957-4AB4-924C-580B528F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9A12E-CBD2-4223-9035-B85B6E41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DAF03-0020-496F-89D7-B313AA5F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4ECAD-0E03-4289-A3FB-C60377B2E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E10-1E69-47EB-98B1-11E70303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97B75-598A-4BF2-AC58-C130C080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CDC84-3B10-4399-AECD-0CFF1FC8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844F3-0B02-4F8A-975E-4D3E2B3F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CE482-8D84-4D39-855A-50E0FA51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CE4D0-781A-41C9-8644-F337BDE6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1803E-03ED-470A-9C2B-5533C8BE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7151D-11A5-489E-9190-87E77E61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79CF8-5C79-44A3-B9BD-3C95B730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97A64-9863-4082-95A6-3F642D16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E60D4-4F75-4C4C-BD81-06EC947D6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9553-7A86-41E4-8C21-2E2EE505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FF51C-64E3-4ABD-A78E-13FBD24B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CD581-7185-4FEF-927F-8AAF9FA1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C33B3-E8D6-4D80-9E91-8A532DBF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9E5FC-5D77-4EF6-92B0-533C5AC0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B3C0A-B616-4848-B3F5-BEBBDD3C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653F4-161B-443C-A83B-DD7721F5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69BB6-24F4-4CC2-8918-971FFF99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30559-FE60-4BA0-ABB9-C7CF9272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DBF1FC-03CE-438D-A83E-A39FF6D0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023E0-F4A4-49BE-AA2C-8B57A3AD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F2A-83D1-4623-AADA-FA4D67C2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672FF-DF7C-4FE5-BF80-8804BD26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2A40B-F1A7-487E-9421-EB1A80DB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46921-3B8E-415D-88AD-D2BC9029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54D16-B198-4FF2-A50D-67AC7366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316A3-1E11-4BE2-AD28-4F0B1586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215BC-278F-4D82-8E22-8C54F0DF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81F9D-E398-4B95-A317-B51BB605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6C5D6-59FA-4068-BC04-6D2F32F2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DC80A-270B-44DD-BF10-85309246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8B860-C00D-47BC-9FA4-709A88D1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9CE-0CC2-4960-B9B1-9B04A1D8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DE808-B505-4E4E-A217-BB13D930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0FBF9-4598-41C3-85BC-5ADFFE65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98F98-2983-43B4-AB27-6BA7E325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B0C10-B4EE-4AC9-9FBA-B22AE85A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2158D-3D68-4CA7-B7C2-D2F8022A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C57EF-5BA0-4B29-8816-76F587852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58377-5770-426C-86C9-F911CB4D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B4034-69C2-4AB1-BC4C-EBE02926A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2115C-A79D-4A99-A6C8-93D4B001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ABDFA7-EA0F-4317-BDDA-0DFB0279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AB9B-F6EA-4721-AA97-6904B00C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2EFFF-D062-4B31-BE8E-FF091E19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9CEED-9EFC-41DE-8A4B-23FCB374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A85BF-148D-413B-9B29-833F9261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CF6FD-66C2-4C52-B69A-12A8C84A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2F2A1-3FF5-402E-B807-6533A458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5C9C7-C72B-45B5-858C-540C45C1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4C177-28E8-487D-BE86-3949133E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9127A-96F8-43A2-8EEF-D158C4C70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3BFEF-14D2-4432-AADE-137A0F88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12671-A49C-46EA-8802-0DA9D67E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403E-E3B8-4905-911C-0B35B98064CB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5800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0FC1-C64A-4B17-87F5-1E0FD3F6E75C}" type="slidenum">
              <a:rPr b="0" lang="es-E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12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DFE3-550F-4AAD-B5AF-4BC874A7496A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8"/>
            <p:cNvSpPr/>
            <p:nvPr/>
          </p:nvSpPr>
          <p:spPr>
            <a:xfrm>
              <a:off x="430920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7644-64D0-40D5-A129-9D9AF9FAD7C4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D500-24DF-48BE-A078-34E26B10AF20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15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5578-E752-4FFB-A8F2-5605F5A42B3B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13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B1E0-95DF-49C2-9685-CEE3FB57F843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14"/>
            <p:cNvSpPr/>
            <p:nvPr/>
          </p:nvSpPr>
          <p:spPr>
            <a:xfrm>
              <a:off x="430920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B0F8-41F2-48A4-9757-CE8A2080AF44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11"/>
            <p:cNvSpPr/>
            <p:nvPr/>
          </p:nvSpPr>
          <p:spPr>
            <a:xfrm rot="5400000">
              <a:off x="6374880" y="291384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8393-1718-4D35-BA31-C1E6E9BF8358}" type="slidenum">
              <a:rPr b="0" lang="es-E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1 Título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0289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Book Antiqua"/>
              </a:rPr>
              <a:t>JESÚS GONZÁLEZ PÉREZ&amp;JULIO VILLALBA MELGUIZO</a:t>
            </a:r>
            <a:endParaRPr b="0" lang="en-US" sz="1400" spc="-1" strike="noStrike">
              <a:solidFill>
                <a:srgbClr val="262626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2-INSTALACIONES Y MATERIAL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3-RECURSOS ECONÓMIC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3.-PROMOCIÓN Y DIFUSIÓN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4.-FASES DE PUESTA EN MARCHA DEL PROYECTO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5.-DOCUMENTACIÓN Y BIBLIOGRAFIA CONSULTADA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7.-ANEX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85440" y="2209320"/>
            <a:ext cx="774684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La empresa se llamará «NATURALCAMP», destinada a la ocupación del tiempo libre y la amenización de la estancia de los usuarios en los campings de verano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62626"/>
                </a:solidFill>
                <a:latin typeface="Book Antiqua"/>
              </a:rPr>
              <a:t>Nos encargaremos de llevar a cabo todas la actividades propuestas gestionar la empresa, adquirir materiales, buscar ayudas económicas y publicidad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1INTRODUC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2-JUSTIFICACIÓN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3-OBJETIVOS DEL PROYEC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4-ANALISIS DEL CONTEXT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95d1d"/>
                </a:solidFill>
                <a:latin typeface="Book Antiqua"/>
              </a:rPr>
              <a:t>1.5-ESTUDIO DEL MERCADO</a:t>
            </a:r>
            <a:endParaRPr b="0" lang="en-US" sz="4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1.6-DESCRIPCIÓN DEL PROGRAMA DE ACTIVIDADE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-LOS RECURSOS Y MEDIOS NECESARI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95d1d"/>
                </a:solidFill>
                <a:latin typeface="Book Antiqua"/>
              </a:rPr>
              <a:t>2.1-HUMANOS</a:t>
            </a:r>
            <a:endParaRPr b="0" lang="en-US" sz="40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Jose</dc:creator>
  <dc:description/>
  <dc:language>en-US</dc:language>
  <cp:lastModifiedBy>JGP</cp:lastModifiedBy>
  <dcterms:modified xsi:type="dcterms:W3CDTF">2010-05-11T10:24:26Z</dcterms:modified>
  <cp:revision>12</cp:revision>
  <dc:subject/>
  <dc:title>NATURALCAMP</dc:title>
</cp:coreProperties>
</file>